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281b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01126-BECF-4503-A77C-E4E885798D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817e"/>
                </a:solidFill>
                <a:latin typeface="Arial"/>
              </a:rPr>
              <a:t>CARTESIAN COMPONENTS OF VECTORS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TESIAN COMPONENTS OF V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Key Point</a:t>
            </a:r>
            <a:br>
              <a:rPr sz="1200"/>
            </a:b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The position vector of P with coordinates (a, b) is: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r = OP = ai + bj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sition vector of P with coordinates (a, b)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= OP = ai + 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State the position vectors of the points with coordinates: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) 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P(2, 4)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b) 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Q(−1, 5)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c) 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R(−1,−7)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d) 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S(8,−4)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position vectors of the points with coordina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(−1,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(−1,−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(8,−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817e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817e"/>
                </a:solidFill>
                <a:latin typeface="Arial"/>
              </a:rPr>
              <a:t>Sketch the position vectors: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817e"/>
                </a:solidFill>
                <a:latin typeface="Arial"/>
              </a:rPr>
              <a:t>r = 3i + 4j,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817e"/>
                </a:solidFill>
                <a:latin typeface="Arial"/>
              </a:rPr>
              <a:t>r = −2i + 5j,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817e"/>
                </a:solidFill>
                <a:latin typeface="Arial"/>
              </a:rPr>
              <a:t>r = −3i − 2j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817e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817e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817e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etch the position vecto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= 3i + 4j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= −2i + 5j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= −3i − 2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The modulus of any vector r is equal to its length. As we have noted earlier the modulus of r is usually denoted by |r|. When r = ai + bj the modulus can be obtained using Pythagoras’ theorem. If r is the position vector of point P then the modulus is clearly the distance of P from the origin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dulus of any vector r is equal to its length. As we have noted earlier the modulus of r is usually denoted by |r|. When r = ai + bj the modulus can be obtained using Pythagoras’ theorem. If r is the position vector of point P then the modulus is clearly the distance of P from the orig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Key Point</a:t>
            </a:r>
            <a:br>
              <a:rPr sz="1200"/>
            </a:b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if r = ai + bj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then |r| = √(a² + b²)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r = ai + 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|r| = √(a² + b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Point A has coordinates (3, 5). Point B has coordinates (7, 8)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) Depict these points on a diagram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b) State the position vectors of A and B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c) Find an expression for AB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d) Find |AB|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A has coordinates (3, 5). Point B has coordinates (7, 8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Depict these points on a dia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State the position vectors of A and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Find an expression for A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Find |AB|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Two-dimensional Coordinate frames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The diagram shows a two-dimensional coordinate frame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ny point P in the plane of the figure can be defined in terms of its x and y coordinates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-dimensional Coordinate fr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gram shows a two-dimensional coordinate fr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point P in the plane of the figure can be defined in terms of its x and y coordin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 unit vector pointing in the positive direction of the x-axis is denoted by i. 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ny vector in the direction of the x-axis will be a multiple of i. 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 vector of length l in the direction of the x-axis can be written li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(All these vectors are multiples of i.)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unit vector pointing in the positive direction of the x-axis is denoted by 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vector in the direction of the x-axis will be a multiple of 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ector of length l in the direction of the x-axis can be written l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ll these vectors are multiples of i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(All these vectors are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multiples of j.)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 unit vector pointing in the positive direction of the y-axis is denoted by j. 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ny vector in the direction of the y-axis will be a multiple of j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 vector of length l in the direction of the y-axis can be written lj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ll these vector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s of j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unit vector pointing in the positive direction of the y-axis is denoted by j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vector in the direction of the y-axis will be a multiple of 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ector of length l in the direction of the y-axis can be written l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Key Point</a:t>
            </a:r>
            <a:br>
              <a:rPr sz="1200"/>
            </a:b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i represents a unit vector in the direction of the positive x-axis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j represents a unit vector in the direction of the positive y-axis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presents a unit vector in the direction of the positive x-ax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represents a unit vector in the direction of the positive y-ax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Draw the vectors 5i and 4j. Use your diagram and the triangle law of addition to add these two vectors together. 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the vectors 5i and 4j. Use your diagram and the triangle law of addition to add these two vectors toge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ny vector in the xy plane can be expressed in the form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r = ai + bj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The numbers a and b are called the components of r in the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x and y directions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vector in the xy plane can be expressed in the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= ai + 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s a and b are called the components of r i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and y dire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)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Draw an xy plane and show the vectors p = 2i + 3j, 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nd q = 5i + j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b) 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Express p and q using column vector notation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c) 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Show the sum p + q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d)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Express the resultant p + q in terms of i and j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n xy plane and show the vectors p = 2i + 3j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q = 5i + 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 p and q using column vector no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the sum p + q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 the resultant p + q in terms of i and 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If a = 9i + 7j and b = 8i + 3j,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find: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) a + b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b) a − b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= 9i + 7j and b = 8i + 3j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a +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 −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70A6-5EF1-4632-BE8C-84DB3B688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67057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99840" y="3927600"/>
            <a:ext cx="67057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62F0-DE00-4B1E-9CA9-8BDABE498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99840" y="392760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36040" y="392760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91FF-8559-48E8-8F5E-CC334CC85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67120" y="152388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34400" y="152388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99840" y="392760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67120" y="392760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34400" y="392760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0B5B-3968-48AE-A7D8-FAAC22D74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FA93B-BD76-4D4A-99EF-121EA3FFE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99840" y="1523880"/>
            <a:ext cx="670572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97C74-B060-4BA7-88CE-2250AB55B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670572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AE457-9E49-4A89-ADB1-E08CF81DC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D7FFE-4804-4304-9D09-787C82353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5DA79-6455-4C08-BE34-EADFCF8ED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C274E-E89C-4CAB-8ECC-17AAB9D90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99840" y="392760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3A4E7-61ED-4AE4-80C6-A1A6BF32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99840" y="1523880"/>
            <a:ext cx="670572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AF51-9D9B-43E5-B84E-C11FA90A8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6040" y="392760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47C08-B8FC-4509-AE18-8E93729D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99840" y="3927600"/>
            <a:ext cx="67057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012CB-95C1-4C82-8444-32FB3328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67057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99840" y="3927600"/>
            <a:ext cx="67057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9D5F9-0BA7-49F4-865F-60DB39E12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99840" y="392760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36040" y="392760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94882-E082-4F67-BC39-0F38A76B7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67120" y="152388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34400" y="152388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99840" y="392760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67120" y="392760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34400" y="392760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3CF0F-1B56-4840-98B6-E336972E9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670572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81EF-530A-4D2D-8ECB-72C7315F3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EE88-D0F8-4E03-A995-4A4B6CA89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6EE3-16DD-4B8A-8205-A0D7A584F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6734-3070-4F67-AA5C-1362AE50C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99840" y="392760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3F06-F238-462F-AB26-12E2F497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6040" y="392760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6834-8B33-40CE-90BE-F6F73486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99840" y="3927600"/>
            <a:ext cx="67057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9D1C-449C-43FD-8AA8-8ACF08BE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281b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99840" y="1523880"/>
            <a:ext cx="670572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9817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576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4EDBC-AE10-47D8-BFB0-1DE34437EFB8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281b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599840" y="1523880"/>
            <a:ext cx="670572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9817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576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51989-ED63-4F08-9D5F-02C71928F7F6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90560" y="378936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be0e3"/>
                </a:solidFill>
                <a:latin typeface="Times New Roman"/>
              </a:rPr>
              <a:t>CARTESIAN COMPONENTS OF VECTORS</a:t>
            </a:r>
            <a:endParaRPr b="0" lang="en-US" sz="3600" spc="-1" strike="noStrike">
              <a:solidFill>
                <a:srgbClr val="0281b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32d2f"/>
                </a:solidFill>
                <a:latin typeface="Times New Roman"/>
              </a:rPr>
              <a:t>Key Point</a:t>
            </a:r>
            <a:br>
              <a:rPr sz="4000"/>
            </a:br>
            <a:endParaRPr b="0" lang="en-US" sz="40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971640" y="198900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The position vector of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P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with coordinates (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a, b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) is: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r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=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OP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=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a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b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j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14" name="Line 5"/>
          <p:cNvSpPr/>
          <p:nvPr/>
        </p:nvSpPr>
        <p:spPr>
          <a:xfrm>
            <a:off x="1547640" y="2421000"/>
            <a:ext cx="360360" cy="0"/>
          </a:xfrm>
          <a:prstGeom prst="line">
            <a:avLst/>
          </a:prstGeom>
          <a:ln w="15840">
            <a:solidFill>
              <a:srgbClr val="132d2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  <p:pic>
        <p:nvPicPr>
          <p:cNvPr id="115" name="Picture 6" descr=""/>
          <p:cNvPicPr/>
          <p:nvPr/>
        </p:nvPicPr>
        <p:blipFill>
          <a:blip r:embed="rId1"/>
          <a:stretch/>
        </p:blipFill>
        <p:spPr>
          <a:xfrm>
            <a:off x="2268360" y="3284640"/>
            <a:ext cx="36720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755640" y="1341360"/>
            <a:ext cx="76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State the position vectors of the points with coordinates: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)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(2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,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4)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b)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Q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−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1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,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5)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c)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−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1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,−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7)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d)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S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(8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,−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4)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32d2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18" name="Line 6"/>
          <p:cNvSpPr/>
          <p:nvPr/>
        </p:nvSpPr>
        <p:spPr>
          <a:xfrm>
            <a:off x="5940360" y="2133720"/>
            <a:ext cx="0" cy="4248000"/>
          </a:xfrm>
          <a:prstGeom prst="line">
            <a:avLst/>
          </a:prstGeom>
          <a:ln w="25560">
            <a:solidFill>
              <a:srgbClr val="132d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19" name="Line 7"/>
          <p:cNvSpPr/>
          <p:nvPr/>
        </p:nvSpPr>
        <p:spPr>
          <a:xfrm>
            <a:off x="3564000" y="4076640"/>
            <a:ext cx="4751280" cy="0"/>
          </a:xfrm>
          <a:prstGeom prst="line">
            <a:avLst/>
          </a:prstGeom>
          <a:ln w="25560">
            <a:solidFill>
              <a:srgbClr val="132d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32d2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755640" y="1341360"/>
            <a:ext cx="76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Sketch the position vectors: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 = 3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i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4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 =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−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2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i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5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 =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−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3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i −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2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826920" y="191628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132d2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826920" y="227664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132d2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826920" y="2637000"/>
            <a:ext cx="5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132d2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pic>
        <p:nvPicPr>
          <p:cNvPr id="125" name="Picture 10" descr=""/>
          <p:cNvPicPr/>
          <p:nvPr/>
        </p:nvPicPr>
        <p:blipFill>
          <a:blip r:embed="rId1"/>
          <a:stretch/>
        </p:blipFill>
        <p:spPr>
          <a:xfrm>
            <a:off x="3419640" y="2492280"/>
            <a:ext cx="439092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4"/>
          <p:cNvSpPr/>
          <p:nvPr/>
        </p:nvSpPr>
        <p:spPr>
          <a:xfrm>
            <a:off x="755640" y="1341360"/>
            <a:ext cx="76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The </a:t>
            </a:r>
            <a:r>
              <a:rPr b="1" lang="en-GB" sz="2400" spc="-1" strike="noStrike">
                <a:solidFill>
                  <a:srgbClr val="132d2f"/>
                </a:solidFill>
                <a:latin typeface="Times New Roman"/>
              </a:rPr>
              <a:t>modulus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of any vector 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is equal to its length. As we have noted earlier the modulus of 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is usually denoted by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|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|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 When 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=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a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b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j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the modulus can be obtained using Pythagoras’ theorem. If 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is the position vector of point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P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then the modulus is clearly the distance of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P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from the origin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32d2f"/>
                </a:solidFill>
                <a:latin typeface="Times New Roman"/>
              </a:rPr>
              <a:t>Key Point</a:t>
            </a:r>
            <a:br>
              <a:rPr sz="4000"/>
            </a:br>
            <a:endParaRPr b="0" lang="en-US" sz="40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755640" y="141300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32d2f"/>
                </a:solidFill>
                <a:latin typeface="Times New Roman"/>
              </a:rPr>
              <a:t>if </a:t>
            </a:r>
            <a:r>
              <a:rPr b="1" i="1" lang="en-GB" sz="28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i="1" lang="en-GB" sz="28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132d2f"/>
                </a:solidFill>
                <a:latin typeface="Times New Roman"/>
              </a:rPr>
              <a:t>= </a:t>
            </a:r>
            <a:r>
              <a:rPr b="0" i="1" lang="en-GB" sz="2800" spc="-1" strike="noStrike">
                <a:solidFill>
                  <a:srgbClr val="132d2f"/>
                </a:solidFill>
                <a:latin typeface="Times New Roman"/>
              </a:rPr>
              <a:t>a</a:t>
            </a:r>
            <a:r>
              <a:rPr b="1" i="1" lang="en-GB" sz="2800" spc="-1" strike="noStrike">
                <a:solidFill>
                  <a:srgbClr val="132d2f"/>
                </a:solidFill>
                <a:latin typeface="Times New Roman"/>
              </a:rPr>
              <a:t>i</a:t>
            </a:r>
            <a:r>
              <a:rPr b="0" i="1" lang="en-GB" sz="28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132d2f"/>
                </a:solidFill>
                <a:latin typeface="Times New Roman"/>
              </a:rPr>
              <a:t>+ </a:t>
            </a:r>
            <a:r>
              <a:rPr b="0" i="1" lang="en-GB" sz="2800" spc="-1" strike="noStrike">
                <a:solidFill>
                  <a:srgbClr val="132d2f"/>
                </a:solidFill>
                <a:latin typeface="Times New Roman"/>
              </a:rPr>
              <a:t>b</a:t>
            </a:r>
            <a:r>
              <a:rPr b="1" i="1" lang="en-GB" sz="2800" spc="-1" strike="noStrike">
                <a:solidFill>
                  <a:srgbClr val="132d2f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32d2f"/>
                </a:solidFill>
                <a:latin typeface="Times New Roman"/>
              </a:rPr>
              <a:t>then </a:t>
            </a:r>
            <a:r>
              <a:rPr b="0" i="1" lang="en-GB" sz="2800" spc="-1" strike="noStrike">
                <a:solidFill>
                  <a:srgbClr val="132d2f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i="1" lang="en-GB" sz="2800" spc="-1" strike="noStrike">
                <a:solidFill>
                  <a:srgbClr val="132d2f"/>
                </a:solidFill>
                <a:latin typeface="Times New Roman"/>
              </a:rPr>
              <a:t>| </a:t>
            </a:r>
            <a:r>
              <a:rPr b="0" lang="en-GB" sz="2800" spc="-1" strike="noStrike">
                <a:solidFill>
                  <a:srgbClr val="132d2f"/>
                </a:solidFill>
                <a:latin typeface="Times New Roman"/>
              </a:rPr>
              <a:t>= </a:t>
            </a:r>
            <a:r>
              <a:rPr b="0" i="1" lang="en-GB" sz="2800" spc="-1" strike="noStrike">
                <a:solidFill>
                  <a:srgbClr val="132d2f"/>
                </a:solidFill>
                <a:latin typeface="Times New Roman"/>
              </a:rPr>
              <a:t>√(a</a:t>
            </a:r>
            <a:r>
              <a:rPr b="0" i="1" lang="en-US" sz="2800" spc="-1" strike="noStrike">
                <a:solidFill>
                  <a:srgbClr val="132d2f"/>
                </a:solidFill>
                <a:latin typeface="Times New Roman"/>
                <a:ea typeface="Times New Roman"/>
              </a:rPr>
              <a:t>²</a:t>
            </a:r>
            <a:r>
              <a:rPr b="0" lang="en-GB" sz="2800" spc="-1" strike="noStrike">
                <a:solidFill>
                  <a:srgbClr val="132d2f"/>
                </a:solidFill>
                <a:latin typeface="Times New Roman"/>
              </a:rPr>
              <a:t> + </a:t>
            </a:r>
            <a:r>
              <a:rPr b="0" i="1" lang="en-GB" sz="2800" spc="-1" strike="noStrike">
                <a:solidFill>
                  <a:srgbClr val="132d2f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132d2f"/>
                </a:solidFill>
                <a:latin typeface="Times New Roman"/>
                <a:ea typeface="Times New Roman"/>
              </a:rPr>
              <a:t>²)</a:t>
            </a:r>
            <a:endParaRPr b="0" lang="en-US" sz="2800" spc="-1" strike="noStrike">
              <a:solidFill>
                <a:srgbClr val="09817e"/>
              </a:solidFill>
              <a:latin typeface="Times New Roman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755640" y="2637000"/>
            <a:ext cx="3600360" cy="25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755640" y="1341360"/>
            <a:ext cx="76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Point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A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has coordinates (3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,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5). Point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B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has coordinates (7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,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8)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) Depict these points on a diagram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b) State the position vectors of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A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d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c) Find an expression for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AB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d) Find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|AB|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32d2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32" name="Line 6"/>
          <p:cNvSpPr/>
          <p:nvPr/>
        </p:nvSpPr>
        <p:spPr>
          <a:xfrm>
            <a:off x="4067280" y="2492280"/>
            <a:ext cx="288720" cy="0"/>
          </a:xfrm>
          <a:prstGeom prst="line">
            <a:avLst/>
          </a:prstGeom>
          <a:ln w="9360">
            <a:solidFill>
              <a:srgbClr val="132d2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33" name="Line 7"/>
          <p:cNvSpPr/>
          <p:nvPr/>
        </p:nvSpPr>
        <p:spPr>
          <a:xfrm>
            <a:off x="1979640" y="2852640"/>
            <a:ext cx="288720" cy="0"/>
          </a:xfrm>
          <a:prstGeom prst="line">
            <a:avLst/>
          </a:prstGeom>
          <a:ln w="9360">
            <a:solidFill>
              <a:srgbClr val="132d2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  <p:pic>
        <p:nvPicPr>
          <p:cNvPr id="134" name="Picture 8" descr=""/>
          <p:cNvPicPr/>
          <p:nvPr/>
        </p:nvPicPr>
        <p:blipFill>
          <a:blip r:embed="rId1"/>
          <a:stretch/>
        </p:blipFill>
        <p:spPr>
          <a:xfrm rot="10800000">
            <a:off x="826920" y="3428640"/>
            <a:ext cx="343080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20872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32d2f"/>
                </a:solidFill>
                <a:latin typeface="Times New Roman"/>
              </a:rPr>
              <a:t>Two-dimensional Coordinate frames</a:t>
            </a:r>
            <a:endParaRPr b="0" lang="en-US" sz="4000" spc="-1" strike="noStrike">
              <a:solidFill>
                <a:srgbClr val="0281ba"/>
              </a:solidFill>
              <a:latin typeface="Times New Roman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3168720" cy="22845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5"/>
          <p:cNvSpPr/>
          <p:nvPr/>
        </p:nvSpPr>
        <p:spPr>
          <a:xfrm>
            <a:off x="755640" y="4221000"/>
            <a:ext cx="76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The diagram shows a two-dimensional coordinate frame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y point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P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in the plane of the figure can be defined in terms of its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x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d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y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coordinates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3600360" cy="20527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5"/>
          <p:cNvSpPr/>
          <p:nvPr/>
        </p:nvSpPr>
        <p:spPr>
          <a:xfrm>
            <a:off x="1042920" y="3500280"/>
            <a:ext cx="6913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 unit vector pointing in the positive direction of the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-axis is denoted by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y vector in the direction of the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-axis will be a multiple of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 vector of length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l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in the direction of the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-axis can be written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l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1187280" y="1341360"/>
            <a:ext cx="32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d4447"/>
                </a:solidFill>
                <a:latin typeface="Times New Roman"/>
              </a:rPr>
              <a:t>(All these vectors are multiples of </a:t>
            </a:r>
            <a:r>
              <a:rPr b="0" i="1" lang="en-GB" sz="1600" spc="-1" strike="noStrike">
                <a:solidFill>
                  <a:srgbClr val="1d4447"/>
                </a:solidFill>
                <a:latin typeface="Times New Roman"/>
              </a:rPr>
              <a:t>i</a:t>
            </a:r>
            <a:r>
              <a:rPr b="0" lang="en-GB" sz="1600" spc="-1" strike="noStrike">
                <a:solidFill>
                  <a:srgbClr val="1d4447"/>
                </a:solidFill>
                <a:latin typeface="Times New Roman"/>
              </a:rPr>
              <a:t>.)</a:t>
            </a:r>
            <a:endParaRPr b="0" lang="en-US" sz="1600" spc="-1" strike="noStrike">
              <a:solidFill>
                <a:srgbClr val="09817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2521080" cy="22608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1258920" y="1341360"/>
            <a:ext cx="194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d4447"/>
                </a:solidFill>
                <a:latin typeface="Times New Roman"/>
              </a:rPr>
              <a:t>(All these vectors are</a:t>
            </a:r>
            <a:endParaRPr b="0" lang="en-US" sz="16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d4447"/>
                </a:solidFill>
                <a:latin typeface="Times New Roman"/>
              </a:rPr>
              <a:t>multiples of </a:t>
            </a:r>
            <a:r>
              <a:rPr b="0" i="1" lang="en-GB" sz="1600" spc="-1" strike="noStrike">
                <a:solidFill>
                  <a:srgbClr val="1d4447"/>
                </a:solidFill>
                <a:latin typeface="Times New Roman"/>
              </a:rPr>
              <a:t>j</a:t>
            </a:r>
            <a:r>
              <a:rPr b="0" lang="en-GB" sz="1600" spc="-1" strike="noStrike">
                <a:solidFill>
                  <a:srgbClr val="1d4447"/>
                </a:solidFill>
                <a:latin typeface="Times New Roman"/>
              </a:rPr>
              <a:t>.)</a:t>
            </a:r>
            <a:endParaRPr b="0" lang="en-US" sz="16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1258920" y="3573360"/>
            <a:ext cx="6769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 unit vector pointing in the positive direction of the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y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-axis is denoted by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y vector in the direction of the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y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-axis will be a multiple of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 vector of length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l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in the direction of the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y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-axis can be written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lj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32d2f"/>
                </a:solidFill>
                <a:latin typeface="Times New Roman"/>
              </a:rPr>
              <a:t>Key Point</a:t>
            </a:r>
            <a:br>
              <a:rPr sz="4000"/>
            </a:br>
            <a:endParaRPr b="0" lang="en-US" sz="40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26560" y="1523880"/>
            <a:ext cx="74790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i="1" lang="en-GB" sz="3200" spc="-1" strike="noStrike" u="sng">
                <a:solidFill>
                  <a:srgbClr val="132d2f"/>
                </a:solidFill>
                <a:uFillTx/>
                <a:latin typeface="Times New Roman"/>
              </a:rPr>
              <a:t>i</a:t>
            </a:r>
            <a:r>
              <a:rPr b="0" i="1" lang="en-GB" sz="32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132d2f"/>
                </a:solidFill>
                <a:latin typeface="Times New Roman"/>
              </a:rPr>
              <a:t>represents a unit vector in the direction of the positive </a:t>
            </a:r>
            <a:r>
              <a:rPr b="0" i="1" lang="en-GB" sz="3200" spc="-1" strike="noStrike">
                <a:solidFill>
                  <a:srgbClr val="132d2f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132d2f"/>
                </a:solidFill>
                <a:latin typeface="Times New Roman"/>
              </a:rPr>
              <a:t>-axis.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i="1" lang="en-GB" sz="3200" spc="-1" strike="noStrike" u="sng">
                <a:solidFill>
                  <a:srgbClr val="132d2f"/>
                </a:solidFill>
                <a:uFillTx/>
                <a:latin typeface="Times New Roman"/>
              </a:rPr>
              <a:t>j</a:t>
            </a:r>
            <a:r>
              <a:rPr b="0" i="1" lang="en-GB" sz="32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132d2f"/>
                </a:solidFill>
                <a:latin typeface="Times New Roman"/>
              </a:rPr>
              <a:t>represents a unit vector in the direction of the positive </a:t>
            </a:r>
            <a:r>
              <a:rPr b="0" i="1" lang="en-GB" sz="3200" spc="-1" strike="noStrike">
                <a:solidFill>
                  <a:srgbClr val="132d2f"/>
                </a:solidFill>
                <a:latin typeface="Times New Roman"/>
              </a:rPr>
              <a:t>y</a:t>
            </a:r>
            <a:r>
              <a:rPr b="0" lang="en-GB" sz="3200" spc="-1" strike="noStrike">
                <a:solidFill>
                  <a:srgbClr val="132d2f"/>
                </a:solidFill>
                <a:latin typeface="Times New Roman"/>
              </a:rPr>
              <a:t>-axis.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32d2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280" y="1341360"/>
            <a:ext cx="755028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132d2f"/>
                </a:solidFill>
                <a:latin typeface="Times New Roman"/>
              </a:rPr>
              <a:t>Draw the vectors 5</a:t>
            </a:r>
            <a:r>
              <a:rPr b="0" i="1" lang="en-GB" sz="2800" spc="-1" strike="noStrike" u="sng">
                <a:solidFill>
                  <a:srgbClr val="132d2f"/>
                </a:solidFill>
                <a:uFillTx/>
                <a:latin typeface="Times New Roman"/>
              </a:rPr>
              <a:t>i</a:t>
            </a:r>
            <a:r>
              <a:rPr b="0" i="1" lang="en-GB" sz="28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132d2f"/>
                </a:solidFill>
                <a:latin typeface="Times New Roman"/>
              </a:rPr>
              <a:t>and 4</a:t>
            </a:r>
            <a:r>
              <a:rPr b="0" i="1" lang="en-GB" sz="2800" spc="-1" strike="noStrike" u="sng">
                <a:solidFill>
                  <a:srgbClr val="132d2f"/>
                </a:solidFill>
                <a:uFillTx/>
                <a:latin typeface="Times New Roman"/>
              </a:rPr>
              <a:t>j</a:t>
            </a:r>
            <a:r>
              <a:rPr b="0" lang="en-GB" sz="2800" spc="-1" strike="noStrike">
                <a:solidFill>
                  <a:srgbClr val="132d2f"/>
                </a:solidFill>
                <a:latin typeface="Times New Roman"/>
              </a:rPr>
              <a:t>. Use your diagram and the triangle law of addition to add these two vectors together. </a:t>
            </a:r>
            <a:endParaRPr b="0" lang="en-US" sz="2800" spc="-1" strike="noStrike">
              <a:solidFill>
                <a:srgbClr val="09817e"/>
              </a:solidFill>
              <a:latin typeface="Times New Roman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2411280" y="3213000"/>
            <a:ext cx="360072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5"/>
          <p:cNvSpPr/>
          <p:nvPr/>
        </p:nvSpPr>
        <p:spPr>
          <a:xfrm>
            <a:off x="755640" y="1341360"/>
            <a:ext cx="76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y vector in the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xy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plane can be expressed in the form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r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=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a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b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j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The numbers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a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d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b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re called the components of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r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in the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x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d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y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directions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  <p:pic>
        <p:nvPicPr>
          <p:cNvPr id="105" name="Picture 6" descr=""/>
          <p:cNvPicPr/>
          <p:nvPr/>
        </p:nvPicPr>
        <p:blipFill>
          <a:blip r:embed="rId1"/>
          <a:stretch/>
        </p:blipFill>
        <p:spPr>
          <a:xfrm>
            <a:off x="2195640" y="2997360"/>
            <a:ext cx="4680000" cy="33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755640" y="1341360"/>
            <a:ext cx="76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)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Draw an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xy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plane and show the vectors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p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= 2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3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,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d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q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= 5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b)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Express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p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d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q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using column vector notation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c)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Show the sum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p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q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d)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Express the resultant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p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q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in terms of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i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d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971640" y="3933720"/>
            <a:ext cx="3456000" cy="2417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"/>
          <p:cNvPicPr/>
          <p:nvPr/>
        </p:nvPicPr>
        <p:blipFill>
          <a:blip r:embed="rId2"/>
          <a:stretch/>
        </p:blipFill>
        <p:spPr>
          <a:xfrm rot="10800000">
            <a:off x="4716000" y="3933360"/>
            <a:ext cx="3457800" cy="23749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32d2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755640" y="13413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If 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a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= 9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7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j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d 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b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= 8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3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j,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find: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) 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a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b) 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a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− 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32d2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7T19:24:33Z</dcterms:created>
  <dc:creator>zafer</dc:creator>
  <dc:description>Cartesian Components maths</dc:description>
  <cp:keywords>Cartesian Components maths</cp:keywords>
  <dc:language>en-US</dc:language>
  <cp:lastModifiedBy>RomaK</cp:lastModifiedBy>
  <dcterms:modified xsi:type="dcterms:W3CDTF">2015-09-04T07:38:21Z</dcterms:modified>
  <cp:revision>7</cp:revision>
  <dc:subject>Cartesian Components maths</dc:subject>
  <dc:title>Cartesian Components maths</dc:title>
</cp:coreProperties>
</file>